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92FF-A94C-4345-BD97-D42F2C9A1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Tyler - First ‘accidental’ 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g by condition – anti Jackson but state’s rights pro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 bank, anti tariff, anti-army, anti-suffrage w/o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ter-Ashburton Treaty for Maine bound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xation of 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 with 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an claims to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e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oneers flock to Oregon – outnumber British sett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cries for all of Oregon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fest destiny becomes the main issue of election of 18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Clay – Whi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K. Polk – Democ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:  annexation of Texas, Oregon, bank and tari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Oregon territory w/o f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change in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k wants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o wants resolution on 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s Slidell to negotiate – Mexico says no – Polk sends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o attack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declares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A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mot Proviso calls for no extension of slavery in new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es HOR but not 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ylor and Scott very successful against Santa A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s future military leaders of Civil War and creates new tac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y of Guadalupe Hidal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s on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didates of 18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mocrats – Lewis Cass – old war veteran, proponent of popular sovereign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igs – Zachary Taylor – hero of M-A war, no former experience, slave ow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e-Soilers – MV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ort Wilmot Proviso, no expansion of slavery, promote settl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e soil, speech, labor, and 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very of Gold fuels pop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government – no infra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titution prohibits sla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naway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ern assis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rriet Tub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 changes ba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xas – New Mexico disputed terri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.C. issues of sla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82E2-FBDE-462F-925A-A7725ACC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6BB-117E-440B-B2F8-37E40FB9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0D38-EEF9-48D7-B85B-14D4A711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D9B-5390-4B2A-884B-2B74D413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1DAB-5922-44C7-99E5-7810DDA0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F2FB-C947-4D74-B1D1-AEF3BCDA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8809-F588-463C-BFF4-194D7AF4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FC3-284A-424A-A79A-D1245A8C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AA3-0940-40FC-93BB-0C509DDD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15C2-C04B-46AB-B4D8-FA7F962E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36CE-1BBB-411A-813A-B4E34C06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F3F-98B2-4585-A6C3-116EFF49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35F4-C7CE-40DD-AFC6-209E8BF8F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ial Revolution and Manifest Dest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5 Reading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portation Revolu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385-3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ce and Impact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ls and Steambo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lr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Impact of Transportation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Revolu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s 390-3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ing-Ou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Samuel S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ls and Early Union Movements Pages 396-4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ll M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impact of factory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Labor U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lass / Transcendentalis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ges 404-4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of Industrial Revolution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endent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?  Why?  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fest Destin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s 462-4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fest Des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necessar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ostook War (not in the bo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e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&amp;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&amp;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k’s Administr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s 470-4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of 18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with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ll 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xican – American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mot Proviso (mentioned on pg 4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y of Guadalupe Hidal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forn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s 477-48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fornia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of 18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-Soi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 Sovereig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5:08:29Z</dcterms:created>
  <dc:creator>School District U46</dc:creator>
  <dc:description/>
  <dc:language>en-US</dc:language>
  <cp:lastModifiedBy>School District U46</cp:lastModifiedBy>
  <dcterms:modified xsi:type="dcterms:W3CDTF">2010-10-20T15:08:48Z</dcterms:modified>
  <cp:revision>1</cp:revision>
  <dc:subject/>
  <dc:title>Industrial Revolution and Manifest Destiny</dc:title>
</cp:coreProperties>
</file>